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4FB5-B971-48EC-966F-23904871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0E7B-DC94-4F09-B195-A91C7198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AB34-BD30-43D1-9432-8DC15358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84DE-D1A2-44F7-826E-C33E5062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7A0E-74FD-4FC2-8B55-27784F63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86AF-8B4E-496F-9693-45A4F957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0AD2-8939-4143-9228-EC4E4C6F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FC5B-3380-43CB-BEC3-C9F1C2B0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047A-E9EB-468F-8B9F-BC11D3E0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D971-0DDB-41E6-BF3F-DB18F177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7A51-6864-4D00-9F58-58BB3910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BEFE-CCD7-4A7E-A8E1-5FA1CC8C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DFD6-3646-4D78-806C-1AF19D547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4343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Bienvenue à Abidjan!!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Chapitre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-2286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L’Afriqu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76520" y="830160"/>
            <a:ext cx="609588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943240" y="0"/>
            <a:ext cx="3429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"/>
              </a:rPr>
              <a:t>Côte d’Ivoi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72200" y="1905120"/>
            <a:ext cx="274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ille principale de la République de Côte d’Ivo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pulation : plus de 2.617.068 in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Capitale : Yamousouk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plus grande ville : Abid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ngue officielle : le França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ouvernement : semi-présidenti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ésident : dispu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dépendance : 7 août 196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French Ru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8:06:30Z</dcterms:created>
  <dc:creator>asmith</dc:creator>
  <dc:description/>
  <dc:language>en-US</dc:language>
  <cp:lastModifiedBy>asmith</cp:lastModifiedBy>
  <dcterms:modified xsi:type="dcterms:W3CDTF">2010-12-13T22:34:38Z</dcterms:modified>
  <cp:revision>2</cp:revision>
  <dc:subject/>
  <dc:title>Bienvenue à Abidjan!!  Chapitre 7</dc:title>
</cp:coreProperties>
</file>